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2901D-BF40-41EF-A101-3D7BA51CD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9866-06F5-44E5-BBB6-09F19C4F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6912F-1552-416D-8CAB-B9FC82B9C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39271-D2C7-4049-8687-E54DE17E6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F3969-0DBA-4A7C-A416-44405C4D1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9A2B1-0489-48DB-91B2-AA0ACE34F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46D67-4D05-4850-9234-BB108531F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31635-52FD-4CB6-9EA7-6B30D28B6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1C340-19D9-4112-B796-B776BBC53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D8303-A9DF-4491-A283-7987A1B47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8A788-D321-47D9-AFDF-F8AFFDA22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BB740-B18B-400A-9289-BEAEABB06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06A98-568A-41CF-BB1C-98927D99F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6681D-BE88-42C7-865F-259A0829D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30F27-EFA6-477B-A9A8-1D6F0CA7D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7BEBA-680F-42DF-9260-ABD651209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63122-F2AF-4712-B3C1-C358D88A9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DF0376-6BE7-4E08-A15C-FC40BBA1E0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7B14A4-9A76-4058-8215-20E12930A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5A0412-C10D-4D50-969A-D69056385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8F8737-D5A7-48FF-8DEF-BBDE558CA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63EE30-BCEC-4E86-A864-01030E143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B88A5-05C7-422A-9EA1-1A0416D9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06E575-96BA-4736-98B7-0A897AB58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90CC70-3706-4B4D-B2C0-1222F054D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AEBAD1-17CB-4B09-9C74-83DE9E888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8394D5-7CB7-4FC6-B141-DC3691E96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252160-45FC-41D8-BF3D-F84387232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8179A3-B7EF-4B36-B29A-0D4F04F222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0020B7B-23A8-4B0B-8173-3365AE2CA5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51F4DF-E628-4E3A-800C-5E88F2E27A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87EDAE-3133-4AB5-BCC4-29E153BC3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D6B205-3BFB-4128-8F50-0180DB475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869A-8B62-42BF-875F-08FDDEC2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63C8CC-98E9-487A-8C63-C5D011DD0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6B1281-409E-4C41-A6B6-2F30C3D79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0455BB-16E2-4387-B885-24C976D8B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DB0580-DE3E-449D-B25B-AE6A5313A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743729-7D35-49F5-AF35-362BADA2C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5B65A1-2C8B-44AD-8CD9-FD2225AF8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70E1DE-41F3-41EC-B4F3-3E4276CFF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998A909-60AB-4AE1-90DD-3A51C83FC8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BB095C-04AB-4BE8-AB24-5BFA0A563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150AF0-2890-435B-B11F-5010032B68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D8931-0508-4E5A-B12C-7AAC30D42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E6D0E0-B352-41E1-B15B-3CEEF85E46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21080C-E39B-4AC6-A907-D0C08F9B9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6F4DD8-674D-4468-833D-DF5EB15F7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E3F8B8-4110-4599-BA43-A5A03B243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4B5B07-3E9B-4CD5-B87C-5CF002083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0CDABA-0A5E-4E80-A996-214DDFF23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C62F8C-4B95-4C7A-B580-2BBA1D30B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CCB0D8-5775-49D1-AA34-7283C81DF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C5C51B-81B5-4123-B06B-17C5565A6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B4074A-A8E5-4282-8B35-AC71B589C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1932-B33E-42C8-B6F5-42E9FA6E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07C8F61-03B0-4AFA-A2F1-65E39945CA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7C0D2B-E7C2-4712-986A-287265E97A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4F3B6-B24A-4FB3-8F97-9C7ED6460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AB070A-070D-44D2-AFEC-FBA0460D58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D124B1-5C63-4789-AB01-F9A5122A8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61C9A-5EF6-4564-840F-414E4759F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1D4E7-2730-4333-A59B-496D8BAB8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8B825-2EE4-41F9-9640-257B6DC68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92175-26B9-43F2-9C14-E2F65E039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F7580-4757-4D32-B5FC-B09B706C1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B6469-CFA5-478E-9D67-A90A1877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227ED-3DED-4950-A0AB-A74599CB56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7CDCD-E4A0-45FD-938A-B0D0CF51C3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1B599-027E-48E7-ACD3-471D642DE1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2E2CEBA-6CDD-402F-BF17-7141C7F12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65E32C-A480-4477-8C9E-6E2458144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4EA6F9C-A5AC-47A1-B218-73DDAB943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880A20-E8AF-4FEC-8B5E-95D261932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858840-1E5F-453C-9C75-B380BB72C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658047-D227-4A69-83AE-B04586C6F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5BBB7B-F4FD-42AD-BF24-DF31D779E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7A545-94F0-406F-B94A-C20A7AA1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CBE2CE-A19B-4675-9C30-A44F9EBEF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A751304-A74C-42B1-90B0-0BC94BCB5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F5DFE8-3C12-46BA-8B94-FBB36E7BB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661EB68-5469-4DB6-A3CC-574B26AC29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FE8743E-BDFF-4037-B568-ED81C48B4C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F91404-0B35-41C9-B36A-2F338844D5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019CE-7571-47E7-95E8-7D7642E78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5A1303-95E2-4BDD-999D-EBD4EDE1E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52537-9CDF-4F97-91CE-A654326CA3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26FA8-4127-496D-AB4C-B77E02421B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AD42-F335-4AF1-AA20-99F3AD1A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E047D-5A88-4E6C-9456-1AF82D5597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216C0A-28E2-40F1-BAF9-E0A3FAD53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BCF34-60D5-475C-BEEC-42A0A68E0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71DE7-998A-470E-8CA1-D4587A8BF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BB198-A382-4148-88A5-0934B95DC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41592A-5112-40EC-B8A0-69EAB04E6F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F0D61D-6F7D-474E-84A7-488A634618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D75B-E09A-4701-BA5B-B9CA2832F9E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FB2B-A352-44B8-BB5B-E8875A693E91}" type="slidenum">
              <a:rPr b="1" lang="ru-RU"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EAC5-9035-4E26-B58F-D52D263069C1}" type="slidenum">
              <a:rPr b="1"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94BB-6A58-4E6F-BF8B-607DEB21567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284D-84E7-4180-AD64-B162EC68DEC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73C5-9585-4F88-9D09-E643268B73AD}" type="slidenum">
              <a:rPr b="1" lang="ru-RU"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Прямоугольник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FB24-3437-4EA5-96A1-5FEDFB1BCDB2}" type="slidenum">
              <a:rPr b="1" lang="ru-RU"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0782-57B0-477A-BA96-503B8FC7415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Birdmorphology.svg" TargetMode="Externa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A_single_white_feather_closeup.jpg" TargetMode="External"/><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500280" y="5000760"/>
            <a:ext cx="3996000" cy="93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bddc3"/>
                </a:solidFill>
                <a:latin typeface="Calibri"/>
              </a:rPr>
              <a:t>ЖИЗНЬ ПТИЦ</a:t>
            </a:r>
            <a:endParaRPr b="0" lang="en-US" sz="4400" spc="-1" strike="noStrike">
              <a:solidFill>
                <a:srgbClr val="ebddc3"/>
              </a:solidFill>
              <a:latin typeface="Calibri"/>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Зимогляд Алена Владимировна 233 группа</a:t>
            </a:r>
            <a:endParaRPr b="0" lang="en-US" sz="2600" spc="-1" strike="noStrike">
              <a:solidFill>
                <a:srgbClr val="ffffff"/>
              </a:solidFill>
              <a:latin typeface="Calibri"/>
            </a:endParaRPr>
          </a:p>
        </p:txBody>
      </p:sp>
      <p:pic>
        <p:nvPicPr>
          <p:cNvPr id="352" name="Picture 2" descr="C:\Documents and Settings\Алёна\Рабочий стол\ИКТО\стерх или белый журавль.jpg"/>
          <p:cNvPicPr/>
          <p:nvPr/>
        </p:nvPicPr>
        <p:blipFill>
          <a:blip r:embed="rId1"/>
          <a:stretch/>
        </p:blipFill>
        <p:spPr>
          <a:xfrm>
            <a:off x="762120" y="420840"/>
            <a:ext cx="4047840" cy="9339120"/>
          </a:xfrm>
          <a:prstGeom prst="rect">
            <a:avLst/>
          </a:prstGeom>
          <a:ln w="0">
            <a:noFill/>
          </a:ln>
        </p:spPr>
      </p:pic>
      <p:pic>
        <p:nvPicPr>
          <p:cNvPr id="353" name="Picture 3" descr="C:\Documents and Settings\Алёна\Рабочий стол\ИКТО\птенец.jpg"/>
          <p:cNvPicPr/>
          <p:nvPr/>
        </p:nvPicPr>
        <p:blipFill>
          <a:blip r:embed="rId2"/>
          <a:stretch/>
        </p:blipFill>
        <p:spPr>
          <a:xfrm>
            <a:off x="5407200" y="920880"/>
            <a:ext cx="3127320" cy="476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57120" y="642600"/>
            <a:ext cx="8501040" cy="51433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75f55"/>
                </a:solidFill>
                <a:latin typeface="Calibri"/>
              </a:rPr>
              <a:t>Птицеводство, или разведение домашней птицы — одна из основных отраслей народного хозяйства, производящее для человека необходимые продукты питания — мясо, яйца и жир, а также перья в качестве набивочного материала. Многие виды попугаев и певчих птиц содержат в домашних условиях как декоративных животных. Издревле разводят домашних голубей — по оценкам специалистов, первую птицу, прирученную человеком. В сельском хозяйстве птичий помёт используется в качестве удобрения. Разнообразные птицы оставили огромный след в культурном наследии самых разных народов — от религии до поэзии и поп-музыки. Вследствие человеческой деятельности многие птицы получили своё дальнейшее развитие (а некоторые стали синантропами), но в то же время огромное их число оказалось на грани полного исчезновения — только с VII столетия 120—130 видов птиц вымерло. В настоящее время около 1200 видов в той или иной степени подвержены риску вымирания и охраняются национальными и международными законодательствами. Наука, изучающая птиц, называется орнитология.</a:t>
            </a:r>
            <a:endParaRPr b="0" lang="en-US" sz="22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2"/>
          <p:cNvSpPr>
            <a:spLocks noGrp="1"/>
          </p:cNvSpPr>
          <p:nvPr>
            <p:ph type="title"/>
          </p:nvPr>
        </p:nvSpPr>
        <p:spPr>
          <a:xfrm>
            <a:off x="928800" y="0"/>
            <a:ext cx="76197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начение и наука</a:t>
            </a:r>
            <a:endParaRPr b="0" lang="en-US" sz="4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28400" y="928800"/>
            <a:ext cx="8358120" cy="5572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1. Тематический словарь в картинках: Мир животных: Перелётные и зимующие птицы России. Автор:Горьканова А.Н.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http://zoo.rin.ru</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2. Внешнее строение птиц</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http://www.spbzoo.ru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3. http://www.krugosvet.ru</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4.  Перьевой покров</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http://www.krugosvet.ru</a:t>
            </a:r>
            <a:endParaRPr b="0" lang="en-US" sz="2800" spc="-1" strike="noStrike">
              <a:solidFill>
                <a:srgbClr val="000000"/>
              </a:solidFill>
              <a:latin typeface="Calibri"/>
            </a:endParaRPr>
          </a:p>
        </p:txBody>
      </p:sp>
      <p:sp>
        <p:nvSpPr>
          <p:cNvPr id="375" name="PlaceHolder 2"/>
          <p:cNvSpPr>
            <a:spLocks noGrp="1"/>
          </p:cNvSpPr>
          <p:nvPr>
            <p:ph type="title"/>
          </p:nvPr>
        </p:nvSpPr>
        <p:spPr>
          <a:xfrm>
            <a:off x="785880" y="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уемая информация</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501040" cy="5429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775f55"/>
                </a:solidFill>
                <a:latin typeface="Calibri"/>
              </a:rPr>
              <a:t>Формирование знаний о внешнем и внутреннем строении птиц, их размножении, развитии и условиях жизни.</a:t>
            </a:r>
            <a:endParaRPr b="0" lang="en-US" sz="6000" spc="-1" strike="noStrike">
              <a:solidFill>
                <a:srgbClr val="000000"/>
              </a:solidFill>
              <a:latin typeface="Calibri"/>
            </a:endParaRPr>
          </a:p>
        </p:txBody>
      </p:sp>
      <p:sp>
        <p:nvSpPr>
          <p:cNvPr id="355" name="PlaceHolder 2"/>
          <p:cNvSpPr>
            <a:spLocks noGrp="1"/>
          </p:cNvSpPr>
          <p:nvPr>
            <p:ph type="title"/>
          </p:nvPr>
        </p:nvSpPr>
        <p:spPr>
          <a:xfrm>
            <a:off x="999720" y="214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Цель:</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357120" y="1071720"/>
            <a:ext cx="8501040" cy="5572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1. Расширить знания о жизни птиц. </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2. Развить логическое мышление учащихся, развить умение анализировать, сравнивать различных представителей класса Птицы.</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 </a:t>
            </a:r>
            <a:r>
              <a:rPr b="1" lang="ru-RU" sz="3200" spc="-1" strike="noStrike">
                <a:solidFill>
                  <a:srgbClr val="775f55"/>
                </a:solidFill>
                <a:latin typeface="Calibri"/>
              </a:rPr>
              <a:t>3. Раскрыть понятия о внешнем и внутреннем строении, размножении и развитии, связи птиц с окружающей средой. </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75f55"/>
                </a:solidFill>
                <a:latin typeface="Calibri"/>
              </a:rPr>
              <a:t>4. Углубить представления о взаимосвязи птиц с окружающей средой обитания.</a:t>
            </a:r>
            <a:endParaRPr b="0" lang="en-US" sz="3200" spc="-1" strike="noStrike">
              <a:solidFill>
                <a:srgbClr val="000000"/>
              </a:solidFill>
              <a:latin typeface="Calibri"/>
            </a:endParaRPr>
          </a:p>
        </p:txBody>
      </p:sp>
      <p:sp>
        <p:nvSpPr>
          <p:cNvPr id="357" name="PlaceHolder 2"/>
          <p:cNvSpPr>
            <a:spLocks noGrp="1"/>
          </p:cNvSpPr>
          <p:nvPr>
            <p:ph type="title"/>
          </p:nvPr>
        </p:nvSpPr>
        <p:spPr>
          <a:xfrm>
            <a:off x="785880" y="142920"/>
            <a:ext cx="7619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дачи:</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214200" y="5072040"/>
            <a:ext cx="8715600" cy="15717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Клюв 2. Голова 3. Радужная оболочка 4. Зрачок 5. Спина 6. Малые кроющие крыла 7. Плечо 8. Кроющие второстепенных маховых 9. Кроющие первостепенных маховых 10. Надхвостье 11. Первостепенные маховые 12. Подхвостье 13. Бедро 14. Предплюсневой сустав 15.Плюсна 16. Пальцы 17. Голень 18. Брюхо 19. Бок 20. Грудь 21. Горло 22. Серёжка</a:t>
            </a:r>
            <a:endParaRPr b="0" lang="en-US" sz="20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PlaceHolder 2"/>
          <p:cNvSpPr>
            <a:spLocks noGrp="1"/>
          </p:cNvSpPr>
          <p:nvPr>
            <p:ph type="title"/>
          </p:nvPr>
        </p:nvSpPr>
        <p:spPr>
          <a:xfrm>
            <a:off x="856800" y="142920"/>
            <a:ext cx="7620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нешнее строение птиц:</a:t>
            </a:r>
            <a:endParaRPr b="0" lang="en-US" sz="4400" spc="-1" strike="noStrike">
              <a:solidFill>
                <a:srgbClr val="775f55"/>
              </a:solidFill>
              <a:latin typeface="Calibri"/>
            </a:endParaRPr>
          </a:p>
        </p:txBody>
      </p:sp>
      <p:pic>
        <p:nvPicPr>
          <p:cNvPr id="360" name="Рисунок 3" descr="http://upload.wikimedia.org/wikipedia/commons/thumb/1/1d/Birdmorphology.svg/300px-Birdmorphology.svg.png">
            <a:hlinkClick r:id="rId1"/>
          </p:cNvPr>
          <p:cNvPicPr/>
          <p:nvPr/>
        </p:nvPicPr>
        <p:blipFill>
          <a:blip r:embed="rId2"/>
          <a:stretch/>
        </p:blipFill>
        <p:spPr>
          <a:xfrm>
            <a:off x="2000160" y="928800"/>
            <a:ext cx="49723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285480" y="428760"/>
            <a:ext cx="8643960" cy="621504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Скелет предельно упрощён и состоит из лёгких и прочных костей. Некоторые кости имеют наполняемые воздухом полости, называемые «пневматическими», связанные сорганами дыхания.</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Кости черепа слиты воедино и не имеют черепных швов. Глазницы большие и разделены между собой костной перегородкой. Череп соединяется с позвоночником при помощи одного затылочного мыщелка, нижняя челюсть  прикрепляется к черепу посредством квадратной кости,  играющей роль подвеска.</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Позвоночный столб делится на цервикальный (шейный), грудной, поясничный и хвостовой отделы. Шейный отдел отличается большой гибкостью, однако подвижность значительно уменьшается в грудном и полностью отсутствует в поясничном отделе. В шейном отделе может быть различное число позвонков (9—25). Кроме атланта иэпистрофея все остальные шейные позвонки у птиц гетероцельного типа и имеют седлообразные суставные поверхности. Это обеспечивает относительную подвижность в горизонтальной и вертикальной плоскостях, но не вокруг оси. Вращение головы вокруг своей оси обеспечивается особым строением первого (атлант) и второго (эпистрофей) шейных позвонков. В грудном отделе 3—10 позвонков, которые у большинства птиц срастаются, образуя спинную кость. Все поясничные, крестцовые и часть хвостовых позвонков вместе с тазом объединены в единую кость, называемую сложным крестцом. Число свободных хвостовых позвонков составляет от 5 до 9. Последние хвостовые позвонки образуют копчиковую кость (пигостиль).</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У птиц (кроме паламедей) рёбра снабжены крючковидными отростками, к которым прикрепляются межрёберные мышцы. Грудина имеет особый вырост — киль, к которому крепится мощная летательная мускулатура (подключичные и большие грудные мышцы); исключение составляют нелетающие птицы. Плечевой пояс состоит из мощных удлиненных коракоидов, сросшихся ключиц (вилочки) и длинных узких лопаток, которые лежат над рёбрами. Кости пясти и некоторые кости запястья срастаются в единое образование — пряжку. Свободными остаются только две проксимальные кости запястья.</a:t>
            </a:r>
            <a:endParaRPr b="0" lang="en-US" sz="1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Большая берцовая кость срастается с проксимальными костями предплюсны (пяточной и таранной) в одну кость — беговую, или большеберцово-заплюсневую (тибиотарзус).Малая берцовая кость редуцирована. Дистальный ряд костей предплюсны и плюсна образуют цевку, что дает дополнительный сустав на ногах. Пальцев чаще всего четыре, фаланговая формула обычно 2-3-4-5. Один из пальцев часто направлен назад и служит для обхвата веток.</a:t>
            </a:r>
            <a:endParaRPr b="0" lang="en-US" sz="1400" spc="-1" strike="noStrike">
              <a:solidFill>
                <a:srgbClr val="000000"/>
              </a:solidFill>
              <a:latin typeface="Calibri"/>
            </a:endParaRPr>
          </a:p>
        </p:txBody>
      </p:sp>
      <p:sp>
        <p:nvSpPr>
          <p:cNvPr id="362" name="PlaceHolder 2"/>
          <p:cNvSpPr>
            <a:spLocks noGrp="1"/>
          </p:cNvSpPr>
          <p:nvPr>
            <p:ph type="title"/>
          </p:nvPr>
        </p:nvSpPr>
        <p:spPr>
          <a:xfrm>
            <a:off x="714240" y="0"/>
            <a:ext cx="7763040" cy="35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утреннее строение. Скелет.</a:t>
            </a:r>
            <a:endParaRPr b="0" lang="en-US" sz="32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http://upload.wikimedia.org/wikipedia/commons/thumb/4/48/A_single_white_feather_closeup.jpg/220px-A_single_white_feather_closeup.jpg">
            <a:hlinkClick r:id="rId1"/>
          </p:cNvPr>
          <p:cNvPicPr/>
          <p:nvPr/>
        </p:nvPicPr>
        <p:blipFill>
          <a:blip r:embed="rId2"/>
          <a:stretch/>
        </p:blipFill>
        <p:spPr>
          <a:xfrm>
            <a:off x="6715080" y="785880"/>
            <a:ext cx="2095560" cy="2790720"/>
          </a:xfrm>
          <a:prstGeom prst="rect">
            <a:avLst/>
          </a:prstGeom>
          <a:ln w="0">
            <a:noFill/>
          </a:ln>
        </p:spPr>
      </p:pic>
      <p:sp>
        <p:nvSpPr>
          <p:cNvPr id="364" name="PlaceHolder 1"/>
          <p:cNvSpPr>
            <a:spLocks noGrp="1"/>
          </p:cNvSpPr>
          <p:nvPr>
            <p:ph type="title"/>
          </p:nvPr>
        </p:nvSpPr>
        <p:spPr>
          <a:xfrm>
            <a:off x="-360" y="-360"/>
            <a:ext cx="3838680" cy="72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bddc3"/>
                </a:solidFill>
                <a:latin typeface="Calibri"/>
              </a:rPr>
              <a:t>ОПЕРЕНИЕ</a:t>
            </a:r>
            <a:endParaRPr b="0" lang="en-US" sz="4000" spc="-1" strike="noStrike">
              <a:solidFill>
                <a:srgbClr val="ebddc3"/>
              </a:solidFill>
              <a:latin typeface="Calibri"/>
            </a:endParaRPr>
          </a:p>
        </p:txBody>
      </p:sp>
      <p:sp>
        <p:nvSpPr>
          <p:cNvPr id="365" name="PlaceHolder 2"/>
          <p:cNvSpPr>
            <a:spLocks noGrp="1"/>
          </p:cNvSpPr>
          <p:nvPr>
            <p:ph type="subTitle"/>
          </p:nvPr>
        </p:nvSpPr>
        <p:spPr>
          <a:xfrm>
            <a:off x="-360" y="713880"/>
            <a:ext cx="9001080" cy="535788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дна из уникальных особенностей птиц — это наличие перьевого покрова, не встречающееся более ни у одной другой группы современных животных. Оперение делает форму тела обтекаемой и увеличивают площадь крыльев и хвоста, что в немалой степени способствует лётным качествам, а также обеспечивает терморегуляцию. Кроме того, с помощью перьев птицы передают друг другу сигналы, маскируются от хищников или наоборот демонстративно себя ведут. Перья представляют собой роговые накожные образования, растущие из расположенных рядами углублений кожи, называемых </a:t>
            </a:r>
            <a:r>
              <a:rPr b="0" i="1" lang="ru-RU" sz="1600" spc="-1" strike="noStrike">
                <a:solidFill>
                  <a:srgbClr val="ffffff"/>
                </a:solidFill>
                <a:latin typeface="Calibri"/>
              </a:rPr>
              <a:t>птерилиями</a:t>
            </a:r>
            <a:r>
              <a:rPr b="0" lang="ru-RU" sz="1600" spc="-1" strike="noStrike">
                <a:solidFill>
                  <a:srgbClr val="ffffff"/>
                </a:solidFill>
                <a:latin typeface="Calibri"/>
              </a:rPr>
              <a:t>. Лишь у немногих нелетающих птиц, как например, у пингвинов, птерилии не выражены, а перья растут равномерно по всему телу.</a:t>
            </a:r>
            <a:endParaRPr b="0" lang="en-US" sz="16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Расположение и форма птерилий часто служат систематическим признаком. В пределах одного вида окрас и форма перьев может различаться в зависимости от возраста, пола или социального статуса птицы. В зависимости от предназначения различают несколько типов перьев, в частности контурных (кроющие на теле, маховые на крыльях и рулевые на хвосте) и пуховых (служат для теплоизоляции). Обычно перья покрывают большую часть тела, за исключением клюва, цевки с пальцами и иногда верхней части голени. У некоторых птиц, у как например индеек и американских грифов, оперение на голове и шее либо отсутствует вовсе, либо выражено очень слабо.</a:t>
            </a:r>
            <a:endParaRPr b="0" lang="en-US" sz="16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ериодически птица линяет: старые перья выпадают, а на их месте вырастают новые. Обычно линька бывает один раз в году, реже — два и совсем редко, как например у морянки (</a:t>
            </a:r>
            <a:r>
              <a:rPr b="0" i="1" lang="ru-RU" sz="1600" spc="-1" strike="noStrike">
                <a:solidFill>
                  <a:srgbClr val="ffffff"/>
                </a:solidFill>
                <a:latin typeface="Calibri"/>
              </a:rPr>
              <a:t>Clangula hyemalis</a:t>
            </a:r>
            <a:r>
              <a:rPr b="0" lang="ru-RU" sz="1600" spc="-1" strike="noStrike">
                <a:solidFill>
                  <a:srgbClr val="ffffff"/>
                </a:solidFill>
                <a:latin typeface="Calibri"/>
              </a:rPr>
              <a:t>) — три раза в год. Крупные хищные птицы способны линять один раз в несколько лет. В случае повторной линьки различают гнездовой и зимний наряды, а также пуховой наряд для неоперившихся птенцов. Как правило, смена маховых и рулевых, необходимых для полёта перьев происходит в определённой последовательности, так что птицы и в процессе линьки сохраняют свои лётные качества. Из этого правила есть и исключения — например, у утиных все маховые опадают одновременно, в результате чего те теряют способность летать. Перед насиживанием у самок большинства видов на брюхе образуется так называемое наседное пятно — неоперённый участок кожи с развитыми кровеносными сосудами, которым птица прижимается к яйцам и согревает их.</a:t>
            </a:r>
            <a:endParaRPr b="0" lang="en-US" sz="16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28760" y="1071720"/>
            <a:ext cx="8501040" cy="5643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Характерная черта размножения птиц — яйцекладка. Яйцеклетка птиц увеличивается и превращается в яйцо, которое отличается большим размером и содержит запас питательных веществ, необходимый для развития зародыша. Половые органы птиц расположены внутри, открываясь напрямую в клоаку. Оплодотворение происходит внутри, после яйцекладки для продолжения развития зародышу необходимо тепло, поэтому родители согревают его теплом своего тела на протяжении нескольких недель или даже месяцев. В зависимости от продолжительности и сложности эмбрионального развития, птицы подразделяются на два класса — выводковые и птенцовые:</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Выводковые птицы — птицы, птенцы которых вылупляются из яйца вполне сформированными, одетыми пухом и способными отыскивать корм. Они тут же покидают гнездо, хотя ещё долгое время следуют за своими родителями, которые их защищают и помогают отыскивать корм.</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Птенцовые птицы — птицы, птенцы которых вылупляются из яйца несформированными, голыми, слепыми и беспомощными. Они долго остаются в гнезде. Родители не только защищают их, но также и кормят из клюва.</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Полувыводковые птицы — смешанный тип развития, при котором птенцы появляются отчасти сформированными, но долгое время остаются в гнезде и получают пищу от родителей.</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rPr>
              <a:t>За несколько дней до вылупления практически сформировавшиеся птенцы устанавливают с родителями звуковую связь. В этом общении выделено около десятка сигналов. Таким образом птенец усваивает сигналы матери и основные ситуации внешней среды, что подготавливает его к жизни после вылупления.</a:t>
            </a:r>
            <a:endParaRPr b="0" lang="en-US" sz="1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2"/>
          <p:cNvSpPr>
            <a:spLocks noGrp="1"/>
          </p:cNvSpPr>
          <p:nvPr>
            <p:ph type="title"/>
          </p:nvPr>
        </p:nvSpPr>
        <p:spPr>
          <a:xfrm>
            <a:off x="1071720" y="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множение</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28800" y="214200"/>
            <a:ext cx="76197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витие птенца в яйце</a:t>
            </a:r>
            <a:endParaRPr b="0" lang="en-US" sz="4400" spc="-1" strike="noStrike">
              <a:solidFill>
                <a:srgbClr val="775f55"/>
              </a:solidFill>
              <a:latin typeface="Calibri"/>
            </a:endParaRPr>
          </a:p>
        </p:txBody>
      </p:sp>
      <p:pic>
        <p:nvPicPr>
          <p:cNvPr id="369" name="Picture 2" descr="Картинка 15 из 3134"/>
          <p:cNvPicPr/>
          <p:nvPr/>
        </p:nvPicPr>
        <p:blipFill>
          <a:blip r:embed="rId1"/>
          <a:stretch/>
        </p:blipFill>
        <p:spPr>
          <a:xfrm>
            <a:off x="1000080" y="13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85840" y="642960"/>
            <a:ext cx="8572320" cy="59292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775f55"/>
                </a:solidFill>
                <a:latin typeface="Calibri"/>
              </a:rPr>
              <a:t>Рацион птиц во многом зависит от предпочтений отдельного вида и может включать в себя самую разнообразную пищу от цветочного нектара до крупной падали. Поскольку зубы у пернатых отсутствуют, пищеварительная система построена таким образом, что позволяет переваривать непережёванную пищу.</a:t>
            </a:r>
            <a:endParaRPr b="0" lang="en-US" sz="26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775f55"/>
                </a:solidFill>
                <a:latin typeface="Calibri"/>
              </a:rPr>
              <a:t>По характеру питания обычно различают растительноядных, животноядных и птиц со смешанным питанием. Всеядных птиц, или «полифагов», относительно немного — к ним, в частности, относятся многие виды ворон и чаек, нелетающие бескилевые птицы (страусы, казуары и др.), погоныш, попугай кеа. Значительно чаще переход с одного пищевого режима на другой зависит от доступности определённого корма, что особенно характерно для зимующих и перелётных птиц северного полушария. </a:t>
            </a:r>
            <a:endParaRPr b="0" lang="en-US" sz="2600" spc="-1" strike="noStrike">
              <a:solidFill>
                <a:srgbClr val="000000"/>
              </a:solidFill>
              <a:latin typeface="Calibri"/>
            </a:endParaRPr>
          </a:p>
        </p:txBody>
      </p:sp>
      <p:sp>
        <p:nvSpPr>
          <p:cNvPr id="371" name="PlaceHolder 2"/>
          <p:cNvSpPr>
            <a:spLocks noGrp="1"/>
          </p:cNvSpPr>
          <p:nvPr>
            <p:ph type="title"/>
          </p:nvPr>
        </p:nvSpPr>
        <p:spPr>
          <a:xfrm>
            <a:off x="785880" y="0"/>
            <a:ext cx="761976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итание</a:t>
            </a:r>
            <a:endParaRPr b="0" lang="en-US" sz="4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22:49:56Z</dcterms:created>
  <dc:creator>User</dc:creator>
  <dc:description/>
  <dc:language>en-US</dc:language>
  <cp:lastModifiedBy>User</cp:lastModifiedBy>
  <dcterms:modified xsi:type="dcterms:W3CDTF">2011-03-15T23:25:24Z</dcterms:modified>
  <cp:revision>5</cp:revision>
  <dc:subject/>
  <dc:title>Слайд 1</dc:title>
</cp:coreProperties>
</file>